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explod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76C3-7D6D-4EB9-9386-13F150B96C25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образовательное учреждение  среднего профессионального образова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итета по здравоохранению Администрации  Волгоградской области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Медицинский колледж №1»,Волгогр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16BD-66BD-41CA-9DB2-FC663310832E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нарушении дыхания и сердечной деятельности производить оживление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5A81-5E4B-4238-A920-F772A38909C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efe"/>
                </a:solidFill>
                <a:latin typeface="Calibri"/>
              </a:rPr>
              <a:t>Будьте осторож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34F0-9418-426E-AD54-208567EA580E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Calibri"/>
              </a:rPr>
              <a:t>Информационные источни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5324-2FDC-4E68-B2D7-67B4CEC2A84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В 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66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Информационны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ACC7-884B-40D9-81EF-77B3F37CB789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5268-353F-46A8-8903-55894349ECA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ff"/>
                </a:solidFill>
                <a:latin typeface="Impact"/>
              </a:rPr>
              <a:t>СИМПТ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ульс едва прощупывается,дыхание еле</a:t>
            </a:r>
            <a:r>
              <a:rPr b="0" lang="ru-RU" sz="1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c3300"/>
                </a:solidFill>
                <a:latin typeface="Calibri"/>
              </a:rPr>
              <a:t>замет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F59F-05EB-439E-96A9-DB3BCD075826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ac090"/>
                </a:solidFill>
                <a:latin typeface="Calibri"/>
              </a:rPr>
              <a:t>В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нач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Тошно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Рво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ровотечение из 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Судор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мо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1785-8F81-4CD2-9FC0-B5554BA8A09F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ПЕРВАЯ ПОМОЩЬ ПРИ СОЛНЕЧНОМ УДА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его уложить в тени, освободить от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C4C8-9E32-4754-A6FE-8F122A424733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1D12-559D-4E27-A36D-791F60059149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ЕРВАЯ ПОМОЩЬ ПРИ ТЕПЛОВОМ УДА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8E9D-4194-45C6-A680-EE15B9169AE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E666-1E1B-49B6-8E41-3DDAA94F357F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D4B-7ECD-4BEA-8964-7814E538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BB6-CF46-49EA-BEFA-AB0AEBC6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D65-2CA9-4A48-B817-051010E2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638-69DF-4460-822F-D67E6830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947-AD2A-41DC-8639-142CD92E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FBA-7517-4163-B849-4B7E5F13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668-9E3C-449B-A565-5BB585BF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CDE-2DAC-4782-B232-C550118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0EE-F61E-4107-BAFB-38FD7E79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007-5538-4A19-AE60-BD6FB8B2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07F-A79E-42F1-BBCA-8DF96E32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FDF-9EAF-4344-825B-BA60E89C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21EC-5748-44BF-990B-011B7749C0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uliya_chicherina_-_zhara.mp3" descr=""/>
          <p:cNvPicPr/>
          <p:nvPr/>
        </p:nvPicPr>
        <p:blipFill>
          <a:blip r:embed="rId1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pic>
        <p:nvPicPr>
          <p:cNvPr id="49" name="iuliya_chicherina_-_zhara.mp3" descr=""/>
          <p:cNvPicPr/>
          <p:nvPr/>
        </p:nvPicPr>
        <p:blipFill>
          <a:blip r:embed="rId2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 среднего профессионального образовани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итета по здравоохранению Администрации  Волгоградской области 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Медицинский колледж №1»,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443640" y="499428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составила студентка группы М-422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енко Оксана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877080" y="642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гоград,2011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3" name="Picture 11" descr="2_4A"/>
          <p:cNvPicPr/>
          <p:nvPr/>
        </p:nvPicPr>
        <p:blipFill>
          <a:blip r:embed="rId3"/>
          <a:stretch/>
        </p:blipFill>
        <p:spPr>
          <a:xfrm>
            <a:off x="611280" y="4746600"/>
            <a:ext cx="3155760" cy="2084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7"/>
          <p:cNvSpPr/>
          <p:nvPr/>
        </p:nvSpPr>
        <p:spPr>
          <a:xfrm>
            <a:off x="2627280" y="3774960"/>
            <a:ext cx="3025800" cy="269712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5" name="WordArt 19" descr=""/>
          <p:cNvPicPr/>
          <p:nvPr/>
        </p:nvPicPr>
        <p:blipFill>
          <a:blip r:embed="rId4"/>
          <a:stretch/>
        </p:blipFill>
        <p:spPr>
          <a:xfrm>
            <a:off x="384120" y="1322280"/>
            <a:ext cx="8399520" cy="112896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22" descr=""/>
          <p:cNvPicPr/>
          <p:nvPr/>
        </p:nvPicPr>
        <p:blipFill>
          <a:blip r:embed="rId5"/>
          <a:stretch/>
        </p:blipFill>
        <p:spPr>
          <a:xfrm>
            <a:off x="6076800" y="2687760"/>
            <a:ext cx="2891160" cy="1330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23" descr=""/>
          <p:cNvPicPr/>
          <p:nvPr/>
        </p:nvPicPr>
        <p:blipFill>
          <a:blip r:embed="rId6"/>
          <a:stretch/>
        </p:blipFill>
        <p:spPr>
          <a:xfrm>
            <a:off x="311040" y="2541600"/>
            <a:ext cx="5735880" cy="9828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5">
            <a:hlinkClick r:id="rId7"/>
          </p:cNvPr>
          <p:cNvSpPr/>
          <p:nvPr/>
        </p:nvSpPr>
        <p:spPr>
          <a:xfrm>
            <a:off x="8675640" y="6499080"/>
            <a:ext cx="468360" cy="331920"/>
          </a:xfrm>
          <a:custGeom>
            <a:avLst/>
            <a:gdLst>
              <a:gd name="textAreaLeft" fmla="*/ 21240 w 468360"/>
              <a:gd name="textAreaRight" fmla="*/ 447120 w 468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30469" h="21600">
                <a:moveTo>
                  <a:pt x="0" y="0"/>
                </a:moveTo>
                <a:lnTo>
                  <a:pt x="30469" y="0"/>
                </a:lnTo>
                <a:lnTo>
                  <a:pt x="30469" y="21600"/>
                </a:lnTo>
                <a:lnTo>
                  <a:pt x="0" y="21600"/>
                </a:lnTo>
                <a:close/>
              </a:path>
              <a:path fill="lightenLess" w="30469" h="21600">
                <a:moveTo>
                  <a:pt x="0" y="0"/>
                </a:moveTo>
                <a:lnTo>
                  <a:pt x="30469" y="0"/>
                </a:lnTo>
                <a:lnTo>
                  <a:pt x="29069" y="1400"/>
                </a:lnTo>
                <a:lnTo>
                  <a:pt x="1400" y="1400"/>
                </a:lnTo>
                <a:close/>
              </a:path>
              <a:path fill="darken" w="30469" h="21600">
                <a:moveTo>
                  <a:pt x="30469" y="0"/>
                </a:moveTo>
                <a:lnTo>
                  <a:pt x="30469" y="21600"/>
                </a:lnTo>
                <a:lnTo>
                  <a:pt x="29069" y="20200"/>
                </a:lnTo>
                <a:lnTo>
                  <a:pt x="29069" y="1400"/>
                </a:lnTo>
                <a:close/>
              </a:path>
              <a:path fill="darkenLess" w="30469" h="21600">
                <a:moveTo>
                  <a:pt x="30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9" y="20200"/>
                </a:lnTo>
                <a:close/>
              </a:path>
              <a:path fill="lighten" w="30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9" h="21600">
                <a:moveTo>
                  <a:pt x="8228" y="3794"/>
                </a:moveTo>
                <a:lnTo>
                  <a:pt x="22241" y="10800"/>
                </a:lnTo>
                <a:lnTo>
                  <a:pt x="822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over dir="u"/>
    <p:sndAc>
      <p:stSnd>
        <p:snd r:embed="rId8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 нарушении дыхания и сердечной деятельности производить оживление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3[3]"/>
          <p:cNvPicPr/>
          <p:nvPr/>
        </p:nvPicPr>
        <p:blipFill>
          <a:blip r:embed="rId1"/>
          <a:stretch/>
        </p:blipFill>
        <p:spPr>
          <a:xfrm>
            <a:off x="539640" y="4149720"/>
            <a:ext cx="441972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[2]"/>
          <p:cNvPicPr/>
          <p:nvPr/>
        </p:nvPicPr>
        <p:blipFill>
          <a:blip r:embed="rId2"/>
          <a:stretch/>
        </p:blipFill>
        <p:spPr>
          <a:xfrm>
            <a:off x="4859280" y="836640"/>
            <a:ext cx="2232000" cy="2879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5292720" y="4076640"/>
            <a:ext cx="2303640" cy="2016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а.jpeg"/>
          <p:cNvPicPr/>
          <p:nvPr/>
        </p:nvPicPr>
        <p:blipFill>
          <a:blip r:embed="rId1"/>
          <a:stretch/>
        </p:blipFill>
        <p:spPr>
          <a:xfrm>
            <a:off x="5000760" y="407196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786040"/>
            <a:ext cx="8278920" cy="15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ages.jpeg"/>
          <p:cNvPicPr/>
          <p:nvPr/>
        </p:nvPicPr>
        <p:blipFill>
          <a:blip r:embed="rId3"/>
          <a:stretch/>
        </p:blipFill>
        <p:spPr>
          <a:xfrm>
            <a:off x="428760" y="285840"/>
            <a:ext cx="3857400" cy="2714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ап.jpeg"/>
          <p:cNvPicPr/>
          <p:nvPr/>
        </p:nvPicPr>
        <p:blipFill>
          <a:blip r:embed="rId4"/>
          <a:stretch/>
        </p:blipFill>
        <p:spPr>
          <a:xfrm>
            <a:off x="428760" y="4071960"/>
            <a:ext cx="385740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ьер а.jpeg"/>
          <p:cNvPicPr/>
          <p:nvPr/>
        </p:nvPicPr>
        <p:blipFill>
          <a:blip r:embed="rId5"/>
          <a:stretch/>
        </p:blipFill>
        <p:spPr>
          <a:xfrm>
            <a:off x="4929120" y="285840"/>
            <a:ext cx="36435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Информационные источ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СОЛНЕЧНЫ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  тяжелых случа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ТЕПЛОВО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524720" y="189000"/>
            <a:ext cx="1441440" cy="129528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260280"/>
            <a:ext cx="1296720" cy="12240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24360" y="1773360"/>
            <a:ext cx="2160720" cy="2663640"/>
          </a:xfrm>
          <a:prstGeom prst="lightningBol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68" name="Picture 9" descr="002"/>
          <p:cNvPicPr/>
          <p:nvPr/>
        </p:nvPicPr>
        <p:blipFill>
          <a:blip r:embed="rId1"/>
          <a:stretch/>
        </p:blipFill>
        <p:spPr>
          <a:xfrm>
            <a:off x="5940360" y="19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ульс едва прощупывается,дыхание ел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ordArt 7" descr=""/>
          <p:cNvPicPr/>
          <p:nvPr/>
        </p:nvPicPr>
        <p:blipFill>
          <a:blip r:embed="rId1"/>
          <a:stretch/>
        </p:blipFill>
        <p:spPr>
          <a:xfrm>
            <a:off x="1536840" y="165240"/>
            <a:ext cx="6229080" cy="14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7"/>
          <p:cNvPicPr/>
          <p:nvPr/>
        </p:nvPicPr>
        <p:blipFill>
          <a:blip r:embed="rId2"/>
          <a:stretch/>
        </p:blipFill>
        <p:spPr>
          <a:xfrm>
            <a:off x="2484360" y="4653000"/>
            <a:ext cx="3610080" cy="2205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В ТЯЖЕЛЫХ СЛУЧА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2620800" y="1755720"/>
            <a:ext cx="3530880" cy="46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781360"/>
            <a:ext cx="78487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шнота</a:t>
            </a:r>
            <a:endParaRPr b="1" i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вота</a:t>
            </a:r>
            <a:endParaRPr b="1" i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ровотечение из носа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удороги</a:t>
            </a:r>
            <a:endParaRPr b="1" i="1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морок</a:t>
            </a: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77" name="Picture 6" descr="Клизма"/>
          <p:cNvPicPr/>
          <p:nvPr/>
        </p:nvPicPr>
        <p:blipFill>
          <a:blip r:embed="rId2"/>
          <a:stretch/>
        </p:blipFill>
        <p:spPr>
          <a:xfrm>
            <a:off x="5796000" y="2565360"/>
            <a:ext cx="295272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ПЕРВАЯ ПОМОЩЬ ПР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его уложить в тени, освободить от оде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4_4A"/>
          <p:cNvPicPr/>
          <p:nvPr/>
        </p:nvPicPr>
        <p:blipFill>
          <a:blip r:embed="rId1"/>
          <a:stretch/>
        </p:blipFill>
        <p:spPr>
          <a:xfrm rot="20569200">
            <a:off x="4643280" y="4581000"/>
            <a:ext cx="2735280" cy="199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_1A"/>
          <p:cNvPicPr/>
          <p:nvPr/>
        </p:nvPicPr>
        <p:blipFill>
          <a:blip r:embed="rId2"/>
          <a:stretch/>
        </p:blipFill>
        <p:spPr>
          <a:xfrm rot="20802600">
            <a:off x="1258920" y="4653000"/>
            <a:ext cx="280836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1"/>
          <a:stretch/>
        </p:blipFill>
        <p:spPr>
          <a:xfrm>
            <a:off x="669960" y="176040"/>
            <a:ext cx="7900920" cy="1202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1280" y="4292640"/>
            <a:ext cx="1800000" cy="2016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87" name="Рисунок 5" descr="ьер а.jpeg"/>
          <p:cNvPicPr/>
          <p:nvPr/>
        </p:nvPicPr>
        <p:blipFill>
          <a:blip r:embed="rId2"/>
          <a:stretch/>
        </p:blipFill>
        <p:spPr>
          <a:xfrm>
            <a:off x="4500720" y="421488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ЕРВАЯ ПОМОЩЬ ПРИ ТЕПЛОВ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435640" y="551664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580000" y="1773360"/>
            <a:ext cx="2303640" cy="201600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3" name="Picture 9" descr="i"/>
          <p:cNvPicPr/>
          <p:nvPr/>
        </p:nvPicPr>
        <p:blipFill>
          <a:blip r:embed="rId1"/>
          <a:stretch/>
        </p:blipFill>
        <p:spPr>
          <a:xfrm>
            <a:off x="5940360" y="4005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47628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3336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7" name="Picture 8" descr="С4"/>
          <p:cNvPicPr/>
          <p:nvPr/>
        </p:nvPicPr>
        <p:blipFill>
          <a:blip r:embed="rId1"/>
          <a:stretch/>
        </p:blipFill>
        <p:spPr>
          <a:xfrm>
            <a:off x="5796000" y="6206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octor"/>
          <p:cNvPicPr/>
          <p:nvPr/>
        </p:nvPicPr>
        <p:blipFill>
          <a:blip r:embed="rId2"/>
          <a:stretch/>
        </p:blipFill>
        <p:spPr>
          <a:xfrm>
            <a:off x="5364000" y="4265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56"/>
          <p:cNvPicPr/>
          <p:nvPr/>
        </p:nvPicPr>
        <p:blipFill>
          <a:blip r:embed="rId3"/>
          <a:stretch/>
        </p:blipFill>
        <p:spPr>
          <a:xfrm>
            <a:off x="2556000" y="472428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34:13Z</dcterms:created>
  <dc:creator>STUDENT</dc:creator>
  <dc:description/>
  <dc:language>en-US</dc:language>
  <cp:lastModifiedBy>LEGION</cp:lastModifiedBy>
  <dcterms:modified xsi:type="dcterms:W3CDTF">2015-05-12T09:05:18Z</dcterms:modified>
  <cp:revision>31</cp:revision>
  <dc:subject/>
  <dc:title>Первая помощь при</dc:title>
</cp:coreProperties>
</file>